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7E8-432F-42C9-9866-5C6FE5B3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01D2-8B06-4A44-924E-5D5FFD72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121C-7E24-4BF7-BA65-16AA9C96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E188-FC9A-492A-A8BD-37B2905E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05F-D66B-4E6F-8852-B9911169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B38C-DFA7-4A6A-B0A9-A3EB2855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1860-0E7E-4472-A814-95D2BFAC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B265-BB45-4C75-9121-11DBC71B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125-7B9D-4C92-9EDC-3FA9CBAE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ADC-858C-4379-913F-F8A21A04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7F26-6862-48F5-AD2C-6D92E344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D81-3C42-40F9-83FC-24A00544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E21E-41CE-4D52-8B34-C2FFDF0D3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nest James A. Gel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wnee Rose S.Medi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Program Files (x86)\Microsoft Office\MEDIA\CAGCAT10\j0195812.wmf"/>
          <p:cNvPicPr/>
          <p:nvPr/>
        </p:nvPicPr>
        <p:blipFill>
          <a:blip r:embed="rId1"/>
          <a:stretch/>
        </p:blipFill>
        <p:spPr>
          <a:xfrm>
            <a:off x="1981080" y="2344680"/>
            <a:ext cx="457200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Program Files (x86)\Microsoft Office\MEDIA\CAGCAT10\j0297707.wmf"/>
          <p:cNvPicPr/>
          <p:nvPr/>
        </p:nvPicPr>
        <p:blipFill>
          <a:blip r:embed="rId1"/>
          <a:stretch/>
        </p:blipFill>
        <p:spPr>
          <a:xfrm>
            <a:off x="642960" y="741240"/>
            <a:ext cx="2743200" cy="3376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Student\AppData\Local\Microsoft\Windows\Temporary Internet Files\Content.IE5\KSPTYE90\MP900402788[1].jpg"/>
          <p:cNvPicPr/>
          <p:nvPr/>
        </p:nvPicPr>
        <p:blipFill>
          <a:blip r:embed="rId2"/>
          <a:stretch/>
        </p:blipFill>
        <p:spPr>
          <a:xfrm>
            <a:off x="3967200" y="741240"/>
            <a:ext cx="4033800" cy="3571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1447920" y="3733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llo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5983200" y="3917880"/>
            <a:ext cx="17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ild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7" descr="C:\Users\Student\AppData\Local\Microsoft\Windows\Temporary Internet Files\Content.IE5\KSPTYE90\MC900436363[1].png"/>
          <p:cNvPicPr/>
          <p:nvPr/>
        </p:nvPicPr>
        <p:blipFill>
          <a:blip r:embed="rId3"/>
          <a:stretch/>
        </p:blipFill>
        <p:spPr>
          <a:xfrm>
            <a:off x="1752480" y="439740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3967200" y="6248520"/>
            <a:ext cx="29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43000" y="3049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ut pi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dd text box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underline wo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ut symb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ut back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dd animations to sli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ut sha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Rehearse slide sh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dd aud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dd eff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S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op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as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hange font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hange font sty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ut tran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Insert pi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resent tables and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header and foo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00:10:53Z</dcterms:created>
  <dc:creator>Student</dc:creator>
  <dc:description/>
  <dc:language>en-US</dc:language>
  <cp:lastModifiedBy>Student</cp:lastModifiedBy>
  <dcterms:modified xsi:type="dcterms:W3CDTF">2012-09-27T00:22:21Z</dcterms:modified>
  <cp:revision>2</cp:revision>
  <dc:subject/>
  <dc:title>Ernest James A. Gelmo Rownee Rose S.Mediano</dc:title>
</cp:coreProperties>
</file>